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D8E4-AF48-45B9-AD8E-9F82BFD6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90D5-65A7-408F-8E49-08E6F323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1AE-6732-4D4A-B0CD-AEB73BCC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20C-8A29-4EA7-8EE7-8D4703CA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463B-46C8-4F48-8DFA-5C6BB8F1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337-AEC7-4CF8-87E3-2F68521B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1B11-A9E0-4062-8060-6BB5D200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FCBE-A4C0-42DA-BAC3-26276D01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2581-9044-4C79-8909-721C713B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495D-0B09-4474-A292-9F54B175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2FA-71B2-4FE6-91F0-C7635CB8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914F-F873-4236-81EE-D16B8A68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CACD-7D95-4710-B6E8-E79B6ADA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320" y="793800"/>
            <a:ext cx="8668080" cy="4175280"/>
            <a:chOff x="76320" y="793800"/>
            <a:chExt cx="8668080" cy="4175280"/>
          </a:xfrm>
        </p:grpSpPr>
        <p:sp>
          <p:nvSpPr>
            <p:cNvPr id="42" name=""/>
            <p:cNvSpPr txBox="1"/>
            <p:nvPr/>
          </p:nvSpPr>
          <p:spPr>
            <a:xfrm rot="17824200">
              <a:off x="5981400" y="2705040"/>
              <a:ext cx="3657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End of the Messinian Salinity Crisi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42920" y="4541760"/>
              <a:ext cx="73915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85320" y="4541760"/>
              <a:ext cx="142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286760" y="4541760"/>
              <a:ext cx="27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0012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10484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8640" y="443700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171880" y="44560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69568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62360" y="44560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3856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0524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829040" y="44560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5296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1008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48440" y="445608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05560" y="4446720"/>
              <a:ext cx="0" cy="295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5360" y="442764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7816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8672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56272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33412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8620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5760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38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58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3244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553080" y="4437000"/>
              <a:ext cx="209520" cy="209520"/>
            </a:xfrm>
            <a:prstGeom prst="ellipse">
              <a:avLst/>
            </a:prstGeom>
            <a:solidFill>
              <a:srgbClr val="00008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76320" y="4800600"/>
              <a:ext cx="97308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23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 rot="21450600">
              <a:off x="1218960" y="4800600"/>
              <a:ext cx="97308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14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352680" y="4800600"/>
              <a:ext cx="97308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7.0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4876920" y="4800600"/>
              <a:ext cx="97308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6.0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 rot="21360600">
              <a:off x="6552720" y="4800240"/>
              <a:ext cx="973080" cy="135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5.0 My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 rot="17824200">
              <a:off x="-29160" y="3305160"/>
              <a:ext cx="234468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Miocene Begi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 rot="17824200">
              <a:off x="4457160" y="2628720"/>
              <a:ext cx="3843360" cy="19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Messinian Salinity Crisis Begin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 rot="17824200">
              <a:off x="4800240" y="2895480"/>
              <a:ext cx="33530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Mediterranean Becomes Isolated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 rot="17824200">
              <a:off x="5031000" y="2741040"/>
              <a:ext cx="3654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Mediterranean Dries U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 rot="17824200">
              <a:off x="5138640" y="2547720"/>
              <a:ext cx="4038840" cy="16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Carving of the Mediterranean Floo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 rot="17824200">
              <a:off x="5486040" y="2666520"/>
              <a:ext cx="365760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orthern Hemisphere Glacia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 rot="17824200">
              <a:off x="5826240" y="2858400"/>
              <a:ext cx="3281400" cy="154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position of Salt Lay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 rot="17824200">
              <a:off x="3443400" y="3323880"/>
              <a:ext cx="2243160" cy="1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creased Glaciation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 rot="17824200">
              <a:off x="2802600" y="2607480"/>
              <a:ext cx="384336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Restriction of the Mediterranean Se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 rot="17824200">
              <a:off x="592560" y="2650320"/>
              <a:ext cx="3843360" cy="15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The African and Asian Plates Collid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20:06:57Z</dcterms:created>
  <dc:creator>Ashley Griffin</dc:creator>
  <dc:description/>
  <dc:language>en-US</dc:language>
  <cp:lastModifiedBy>Ashley Griffin</cp:lastModifiedBy>
  <dcterms:modified xsi:type="dcterms:W3CDTF">2007-08-01T23:25:23Z</dcterms:modified>
  <cp:revision>7</cp:revision>
  <dc:subject/>
  <dc:title>Slide 1</dc:title>
</cp:coreProperties>
</file>