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0A5C-F5C1-4052-9AAD-C1CEB2085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67D-E5D4-49F9-9FE9-FD92C5DC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1FCA-5DEE-4651-B187-87CAD76B2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AC1D-E9FA-4F3C-8CFD-C8DE2156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1ED-B0EC-4CF8-BCF9-CA9D1E3C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50B-058C-4E25-BA93-5449302D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BCC-06FA-42A1-9B83-B7842E0D6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A79-8EF5-4C5E-995D-7B67B720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F5E-4D2D-4579-AFAE-EB0999D9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A71-8388-4131-95D1-5ECA0AA9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C4ED-CE62-4F4D-AE62-0034D559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FF51-92CE-4CEB-962E-FD22C30C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6766-C325-422E-80A4-9F9431F14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18840" y="4343400"/>
            <a:ext cx="7687080" cy="611280"/>
            <a:chOff x="618840" y="4343400"/>
            <a:chExt cx="7687080" cy="611280"/>
          </a:xfrm>
        </p:grpSpPr>
        <p:sp>
          <p:nvSpPr>
            <p:cNvPr id="42" name=""/>
            <p:cNvSpPr/>
            <p:nvPr/>
          </p:nvSpPr>
          <p:spPr>
            <a:xfrm>
              <a:off x="676440" y="4457880"/>
              <a:ext cx="7391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618840" y="445788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819920" y="4457880"/>
              <a:ext cx="2764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33640" y="436248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38360" y="436248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62160" y="4352760"/>
              <a:ext cx="0" cy="295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05040" y="4371840"/>
              <a:ext cx="0" cy="295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28840" y="436248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95880" y="4371840"/>
              <a:ext cx="0" cy="295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72080" y="436248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38760" y="436248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62560" y="4371840"/>
              <a:ext cx="0" cy="295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86480" y="436248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43600" y="436248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81960" y="4371840"/>
              <a:ext cx="0" cy="2955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39080" y="436248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28880" y="4343400"/>
              <a:ext cx="209520" cy="20952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15200" y="4352760"/>
              <a:ext cx="209520" cy="20988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400800" y="4352760"/>
              <a:ext cx="209520" cy="20988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95880" y="4352760"/>
              <a:ext cx="209520" cy="20988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67280" y="4352760"/>
              <a:ext cx="209520" cy="20988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419720" y="4352760"/>
              <a:ext cx="209520" cy="20988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1120" y="4352760"/>
              <a:ext cx="209520" cy="20988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057400" y="4352760"/>
              <a:ext cx="209520" cy="20988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29400" y="4352760"/>
              <a:ext cx="209520" cy="20988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0" y="4352760"/>
              <a:ext cx="209520" cy="20988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86600" y="4352760"/>
              <a:ext cx="209520" cy="20988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5800" y="45720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3 My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76520" y="457200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4 My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09880" y="458640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.0 My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86400" y="457200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.0 My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86600" y="4572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.0 My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20:06:57Z</dcterms:created>
  <dc:creator>Ashley Griffin</dc:creator>
  <dc:description/>
  <dc:language>en-US</dc:language>
  <cp:lastModifiedBy>Ashley Griffin</cp:lastModifiedBy>
  <dcterms:modified xsi:type="dcterms:W3CDTF">2007-08-27T18:43:54Z</dcterms:modified>
  <cp:revision>9</cp:revision>
  <dc:subject/>
  <dc:title>Slide 1</dc:title>
</cp:coreProperties>
</file>