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9A8-68F0-49C4-8D67-160C9B361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1EB-CA90-429D-B1D2-A6374A50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65B-4081-44BC-923E-B6EAD4E1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347-2229-4D45-8535-58109F8D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F88A-E4FE-4E5A-A803-F49DDA91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141-A558-4085-8DCB-21D5F7FF5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524E-CB0D-4994-9BB9-B6304C18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9E6D-52FD-424B-A716-3744FA07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BAC-E521-40BE-9E5B-481AA1E1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F81-93FF-4E79-881B-13C10FC3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4AF7-A895-4502-8A9E-5308D809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41F-0E8D-4347-9F8F-65129093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BC1A-7BA4-42E3-9DD0-A07A21012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1.htm" TargetMode="External"/><Relationship Id="rId2" Type="http://schemas.openxmlformats.org/officeDocument/2006/relationships/hyperlink" Target="file:///13.htm" TargetMode="External"/><Relationship Id="rId3" Type="http://schemas.openxmlformats.org/officeDocument/2006/relationships/hyperlink" Target="file:///9.htm" TargetMode="External"/><Relationship Id="rId4" Type="http://schemas.openxmlformats.org/officeDocument/2006/relationships/hyperlink" Target="file:///8.htm" TargetMode="External"/><Relationship Id="rId5" Type="http://schemas.openxmlformats.org/officeDocument/2006/relationships/hyperlink" Target="file:///7.htm" TargetMode="External"/><Relationship Id="rId6" Type="http://schemas.openxmlformats.org/officeDocument/2006/relationships/hyperlink" Target="file:///6.htm" TargetMode="External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6840" y="2114640"/>
            <a:ext cx="7601400" cy="1164240"/>
            <a:chOff x="456840" y="2114640"/>
            <a:chExt cx="7601400" cy="1164240"/>
          </a:xfrm>
        </p:grpSpPr>
        <p:sp>
          <p:nvSpPr>
            <p:cNvPr id="42" name=""/>
            <p:cNvSpPr/>
            <p:nvPr/>
          </p:nvSpPr>
          <p:spPr>
            <a:xfrm>
              <a:off x="638280" y="2228400"/>
              <a:ext cx="7391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580680" y="222840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7782120" y="222840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548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020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24000" y="212364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67240" y="214272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9104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257720" y="214272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3392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80060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324400" y="214272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44832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0544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543800" y="214272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00920" y="2133360"/>
              <a:ext cx="0" cy="294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>
              <a:hlinkClick r:id="rId1"/>
            </p:cNvPr>
            <p:cNvSpPr/>
            <p:nvPr/>
          </p:nvSpPr>
          <p:spPr>
            <a:xfrm>
              <a:off x="990720" y="2114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>
              <a:hlinkClick r:id="rId2"/>
            </p:cNvPr>
            <p:cNvSpPr/>
            <p:nvPr/>
          </p:nvSpPr>
          <p:spPr>
            <a:xfrm>
              <a:off x="7439040" y="2114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>
              <a:hlinkClick r:id="rId3"/>
            </p:cNvPr>
            <p:cNvSpPr/>
            <p:nvPr/>
          </p:nvSpPr>
          <p:spPr>
            <a:xfrm>
              <a:off x="5219640" y="2123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>
              <a:hlinkClick r:id="rId4"/>
            </p:cNvPr>
            <p:cNvSpPr/>
            <p:nvPr/>
          </p:nvSpPr>
          <p:spPr>
            <a:xfrm>
              <a:off x="4695840" y="2123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>
              <a:hlinkClick r:id="rId5"/>
            </p:cNvPr>
            <p:cNvSpPr/>
            <p:nvPr/>
          </p:nvSpPr>
          <p:spPr>
            <a:xfrm>
              <a:off x="4152960" y="2123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>
              <a:hlinkClick r:id="rId6"/>
            </p:cNvPr>
            <p:cNvSpPr/>
            <p:nvPr/>
          </p:nvSpPr>
          <p:spPr>
            <a:xfrm>
              <a:off x="3629160" y="2123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86280" y="2123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62120" y="2123640"/>
              <a:ext cx="20988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19240" y="2114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495440" y="2114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00680" y="2114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43560" y="2114640"/>
              <a:ext cx="20988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896160" y="2123640"/>
              <a:ext cx="209520" cy="20916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 rot="18315600">
              <a:off x="311040" y="2726640"/>
              <a:ext cx="97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3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 rot="18315600">
              <a:off x="836280" y="2709360"/>
              <a:ext cx="971640" cy="14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4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 rot="18315600">
              <a:off x="1369800" y="2726640"/>
              <a:ext cx="97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.2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18315600">
              <a:off x="2439360" y="2711880"/>
              <a:ext cx="971640" cy="13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.9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 rot="18315600">
              <a:off x="1905840" y="2694240"/>
              <a:ext cx="97164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.0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 rot="18315600">
              <a:off x="2972520" y="2711520"/>
              <a:ext cx="97164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.0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 rot="18233400">
              <a:off x="3523680" y="2770560"/>
              <a:ext cx="971640" cy="13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96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 rot="18233400">
              <a:off x="4039560" y="2711880"/>
              <a:ext cx="971640" cy="13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59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 rot="18233400">
              <a:off x="4572720" y="2711520"/>
              <a:ext cx="97164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57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8233400">
              <a:off x="5123880" y="2711880"/>
              <a:ext cx="971640" cy="13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56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 rot="18233400">
              <a:off x="5733360" y="2711520"/>
              <a:ext cx="97164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5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 rot="18233400">
              <a:off x="6249240" y="2711520"/>
              <a:ext cx="97164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4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 rot="18233400">
              <a:off x="6782760" y="2694600"/>
              <a:ext cx="971640" cy="134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33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06:57Z</dcterms:created>
  <dc:creator>Ashley Griffin</dc:creator>
  <dc:description/>
  <dc:language>en-US</dc:language>
  <cp:lastModifiedBy>Ashley Griffin</cp:lastModifiedBy>
  <dcterms:modified xsi:type="dcterms:W3CDTF">2007-08-01T22:23:59Z</dcterms:modified>
  <cp:revision>7</cp:revision>
  <dc:subject/>
  <dc:title>Slide 1</dc:title>
</cp:coreProperties>
</file>